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A9FBB728-8A5C-4FAF-B8CE-BA01DFFB56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F510D080-37FA-4BAC-9550-54BAD0436EB4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2. nädal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3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mõne simulaatoriga; vaata loengu lisamaterjalidest ntx Ecki sim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math.hws.edu/eck/js/xLogicCircuits/xLogicCircuit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ea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alternatiiv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simulaator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i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www.kolls.net/gatesi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circuitverse.org/simu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bstraktsiooni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math.hws.edu/eck/js/xComputer/xComputer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S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, a la 65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24720" indent="-3247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78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ehitus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ja käs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: enimkasutatud protsessor esimestes mikroarvutites seitsmekümnendatel (Apple I, II, Atari, Commodore j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MOS_Technology_65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 käsustiku üpris täpne simulaator &amp; hea õpi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füüsilin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visual6502.org/JSSim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 ehitamine releedest, lampidest või transistori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kroprotsessori füüsiline ehit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st suuremate komponentide tege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u ehi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sessori tööpõhimõt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ja kä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timeeringud reaalsetes protsess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i detaile ja arusaamist neist teemadest leiad loengust/videos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werpoint detailidesse ei lä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äga erinevad arhitektuuritüü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ISC ehk complex instruction set: Intel ja A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SC ehk reduced instruction set: ARM (mobiil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Graafikaprotsesso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0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9"/>
          <p:cNvCxnSpPr>
            <a:endCxn id="119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3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3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0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1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45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46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4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5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3-09-08T06:24:08Z</dcterms:modified>
  <cp:revision>24</cp:revision>
  <dc:subject/>
  <dc:title>PowerPoint Presentation</dc:title>
</cp:coreProperties>
</file>